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688-CC3E-4733-9011-18301E7F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931-0529-420E-95E0-695EB017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975-FE48-4B08-B335-C59A4269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A79-7F11-4D72-80F9-4269AB53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16D-0409-400A-AD6B-CE431A5E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C7B-8653-4565-AF6B-B2830F6F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8C0-6696-4023-8B4D-A61C7E74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EDA-676F-4878-A25C-FF079CAC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919-694D-4CAD-BA1A-7E70DD87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B37-6C46-41D3-938B-E67BE407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A03-3A65-477A-8660-0F96769A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FC0-06EC-4EFA-BACE-64AFA883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095C-15AE-40A3-B9CE-B8A5ECD13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eb.mit.edu/invent/i-archive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5751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6095880"/>
            <a:ext cx="329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762120"/>
            <a:ext cx="74674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opsicles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55627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8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. N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920" y="50292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ip Hop, 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4/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ion: Pops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ank made the popsicle at age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mixed a soft drink one winter night in 1905 made with soda, water powder, and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put it on his front porch over night and in the morning there was a fruity substance on his front por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popsicles gained popularity very quick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rst made with birch wood sticks and sold for just a nick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day hundreds of millions of popsicles are eaten in the U.S every y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re are more than thirty flavors including Grape, Lemon, Lime, Banana, Cherry, and Raspber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most popular flavor for year and years is Classic Orang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or: 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nk was born in 1894 and raised in San Francisc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the made the best creation to me the popsi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he is said to have tasted it and shown  to all his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old his rights to the popsicle to Joe Lowe Company in New Y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Epperson"/>
          <p:cNvPicPr/>
          <p:nvPr/>
        </p:nvPicPr>
        <p:blipFill>
          <a:blip r:embed="rId1"/>
          <a:stretch/>
        </p:blipFill>
        <p:spPr>
          <a:xfrm>
            <a:off x="0" y="0"/>
            <a:ext cx="2881440" cy="5791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Epperson"/>
          <p:cNvPicPr/>
          <p:nvPr/>
        </p:nvPicPr>
        <p:blipFill>
          <a:blip r:embed="rId2"/>
          <a:srcRect l="0" t="0" r="37239" b="10351"/>
          <a:stretch/>
        </p:blipFill>
        <p:spPr>
          <a:xfrm>
            <a:off x="2895480" y="0"/>
            <a:ext cx="6248520" cy="2751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Epperson"/>
          <p:cNvPicPr/>
          <p:nvPr/>
        </p:nvPicPr>
        <p:blipFill>
          <a:blip r:embed="rId3"/>
          <a:stretch/>
        </p:blipFill>
        <p:spPr>
          <a:xfrm>
            <a:off x="2895480" y="2743200"/>
            <a:ext cx="624852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57913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ank Epperson Popsic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9/29/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-archiv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8Z</dcterms:created>
  <dc:creator>install</dc:creator>
  <dc:description/>
  <dc:language>en-US</dc:language>
  <cp:lastModifiedBy>install</cp:lastModifiedBy>
  <dcterms:modified xsi:type="dcterms:W3CDTF">2010-10-14T17:29:31Z</dcterms:modified>
  <cp:revision>12</cp:revision>
  <dc:subject/>
  <dc:title>Slide 1</dc:title>
</cp:coreProperties>
</file>